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0E1-65E4-44D8-BC41-688ED9FB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AA5-63D1-48A4-BA99-97C241DB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895-05AF-4715-8C68-D5955E78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50D-77A9-4A7F-B1CB-2BBEBEAF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7EF-DD9E-4A27-97D2-46D0621D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9AD-6ADB-4A2B-B38E-7FB02DA6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6D3-8DC2-48BC-BD65-BAFB5AEE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0B9-1786-43F2-B8B1-A184A710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B1B-6494-4508-800E-A5A87126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E3B-660A-49C6-B49F-9FDF2360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1FC-BD0E-466E-9B69-5599A23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63D-4384-47A6-A760-2B201D5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A3E-4DC8-4580-A356-4EDE2D44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84578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609480"/>
          <a:ext cx="8077320" cy="4870440"/>
        </p:xfrm>
        <a:graphic>
          <a:graphicData uri="http://schemas.openxmlformats.org/drawingml/2006/table">
            <a:tbl>
              <a:tblPr/>
              <a:tblGrid>
                <a:gridCol w="1152360"/>
                <a:gridCol w="1155960"/>
                <a:gridCol w="1152360"/>
                <a:gridCol w="1155600"/>
                <a:gridCol w="1152720"/>
                <a:gridCol w="1155600"/>
                <a:gridCol w="11527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9:11:05Z</dcterms:created>
  <dc:creator>J Barger</dc:creator>
  <dc:description/>
  <dc:language>en-US</dc:language>
  <cp:lastModifiedBy>J Barger</cp:lastModifiedBy>
  <dcterms:modified xsi:type="dcterms:W3CDTF">2010-03-09T19:17:08Z</dcterms:modified>
  <cp:revision>1</cp:revision>
  <dc:subject/>
  <dc:title>Slide 1</dc:title>
</cp:coreProperties>
</file>